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4AD-BB5B-4435-838E-C2441CF9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7DB-1AC5-46EE-A416-E6100055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C46-DC42-4085-AF44-0C020137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020-EA80-4FC8-A146-228C03C3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18B-5355-4E6E-8E89-70634A79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BC0-89C3-4D71-B157-09FA05DA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FDF-5FC6-4109-BD20-E2DB81F6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2C0-BE1C-4A11-BC98-2F481703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079-CAE7-4359-A794-B0857579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5E0-2E00-437B-B91F-83BB6F24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1FF-F31A-4544-8DC4-26D798AF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98C-A726-4376-A2FE-E9B741BD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735E-4D39-4832-8244-A9B8DC493E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Eras Medium ITC"/>
              </a:rPr>
              <a:t>The Opening Ceremon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Eras Medium ITC"/>
              </a:rPr>
              <a:t>By Li-Na Vincent, Mikki South &amp; Tom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_43017275_olympic_jeremy"/>
          <p:cNvPicPr/>
          <p:nvPr/>
        </p:nvPicPr>
        <p:blipFill>
          <a:blip r:embed="rId1"/>
          <a:stretch/>
        </p:blipFill>
        <p:spPr>
          <a:xfrm>
            <a:off x="3059280" y="692280"/>
            <a:ext cx="28810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395280" y="4005360"/>
            <a:ext cx="849780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ras Medium ITC"/>
              </a:rPr>
              <a:t>90 x 70 = 6300 m</a:t>
            </a: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ras Medium ITC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÷ 2 = 35 = radi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r² = 3848.451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Area of track =10148.451m² rounded 1sf =10000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3.5 people fit in 1m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3.5 x 10000 = 35000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Eras Medium ITC"/>
              </a:rPr>
              <a:t>The answer…? Yes they can all f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059280" y="1844640"/>
            <a:ext cx="3024000" cy="18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084720" y="1844640"/>
            <a:ext cx="1800360" cy="187164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 rot="10800000">
            <a:off x="1258560" y="1844280"/>
            <a:ext cx="1800360" cy="187164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132000" y="1484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ras Medium ITC"/>
              </a:rPr>
              <a:t>9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059280" y="256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ras Medium ITC"/>
              </a:rPr>
              <a:t>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i"/>
          <p:cNvPicPr/>
          <p:nvPr/>
        </p:nvPicPr>
        <p:blipFill>
          <a:blip r:embed="rId1"/>
          <a:stretch/>
        </p:blipFill>
        <p:spPr>
          <a:xfrm>
            <a:off x="684360" y="4941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 flipV="1">
            <a:off x="2771640" y="2924280"/>
            <a:ext cx="79236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2771640" y="1844640"/>
            <a:ext cx="1584360" cy="2378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 flipV="1">
            <a:off x="2700360" y="3357360"/>
            <a:ext cx="417672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1:40Z</dcterms:created>
  <dc:creator>vincentl</dc:creator>
  <dc:description/>
  <dc:language>en-US</dc:language>
  <cp:lastModifiedBy> </cp:lastModifiedBy>
  <dcterms:modified xsi:type="dcterms:W3CDTF">2010-06-12T11:56:56Z</dcterms:modified>
  <cp:revision>2</cp:revision>
  <dc:subject/>
  <dc:title>The Opening Ceremony Problem</dc:title>
</cp:coreProperties>
</file>